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59700-51C7-4111-9E9E-2EFDB7143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7654-E090-4165-82E8-6698F25C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93C4E8A-C41E-4F2E-86F1-2035999F9A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30BE32A-FBA7-40A0-BEDF-5F8E7594DC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88182A1-F9CA-4C72-A0D7-AE982403F4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550CF9-A683-478A-948B-55B2C4840C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24B246-64B2-4F98-9E3A-A960BD285F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00BA40E-3E96-4670-BCC3-7E06D94AE4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2669F01-4968-43FF-9F95-ECA42C087A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F896A9D-790F-4B9F-84DC-FDAD0E1405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2BE8F2A-5F8C-4431-8976-32D7FF6FD2B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46E13EC-6C4B-4883-B572-EDEE00CD4B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C232E-B841-445F-BF42-BF824D099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0D39B6A-BE9C-4D99-956A-CA4CE6767E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4925FEA-92E0-416A-8713-E563B5792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E66CE4-D5EA-4DE5-91B8-409DBACE17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9210259-8313-4A7F-B414-7243834374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B5E208-04E2-415A-A5C5-E10130B7F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2C64C5-04C6-4AC7-B1FB-63E7D87B29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7468A6-E185-4651-A57F-AB540B2791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6357A2-71A5-4B1A-8A81-9DA89E7A15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949ED2-4B49-4F4A-9AFF-ECD19ECA2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6DEB327-30A9-46BD-82C4-825C8E47ED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1DABF-82E8-4E15-9303-6518478E0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3599D6A-20D5-4FCD-88CA-617FFE8E62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FC76CB-35A9-4316-B68E-DEF4BE03FF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1805C2-D096-4C5B-9BC4-685FAC2B5E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EF0925-0538-4B8E-B0B7-5D71C9113A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D4BEDB-6FC5-4D2B-97C0-9AD1BDA969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1E8D76-2358-48ED-A969-B4F5A08EB0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C7F692-E033-40F9-9A1F-7B02014EB6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37729-3509-4CAD-81B6-2677E69745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9A210D-5C3E-4429-BD0D-A664069453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5D106E-FAAE-4CC7-889F-6B4C6D2259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F758D-720A-415C-A3C9-A5397F315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CBDD4F-A127-49DC-A94A-34A03B4212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5A1D33-0B88-47CD-8B1E-472736DBD4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705496-8034-4A20-81A5-051C160D99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C1779FF-EEB0-43A0-A85F-FD8F9D886E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AEC174B-4B68-4926-B361-43C9288DBB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4EF5727-EDBE-4DB9-B163-35FE8F0A6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2BB71A7-695F-4B42-9B8A-42A8F09E59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A6852FA-5C2E-4F14-A210-6AD331BE8C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8A5C502-681E-432A-B448-A01D2A025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9F4AA22-41AA-43EC-8BF0-B91B4CE260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7A214-1F4A-46F5-92DA-072BA2278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19B6DD-F251-41DC-9550-A61AAB208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53A62B-5EFC-4E39-8A5C-DC24ECFB3E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DB54513-5A1D-4489-9513-D51955FB51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338C74E-ACB2-4ACD-8455-93FD1C9846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A71AB4D-5C9C-4A2C-8AB5-818E1F0877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4375A-22E2-4E12-A87E-2B47592B8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D5A7B-81CA-42D2-A1B3-2F2806316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4E21E-A071-448F-8E62-0F40C6353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B1EB9-AC8B-416C-B235-305D29253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809D8-3443-45BA-BEEC-58D4D6C95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72DDE-B54D-410C-ADE5-64EB8F35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54E35-1415-4F34-89B3-A59D0287F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0004D-6592-4FF7-A9F7-FDDB9C921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BF39F-99D5-48D9-B61B-75D2B1059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F61EC-90A4-4BB0-8580-9BBF1E58F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A55A5-E7F1-4E52-845A-A291C3DAF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F982A9-7F16-4A30-B126-5CCFE1AC1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3BA51-A079-4A00-B9CC-88A749F11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E811A-7033-43F5-98EE-C7EA894E2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80434-0037-4ED3-BF76-36D7487F6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BC68E-C54F-4438-A6C0-4913F220C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32E0-887E-4643-82A9-43443C56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47F52-6471-43F2-BDCC-C65DF6098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BAE5E-CFC0-44BD-9E07-B58866506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B228A-E3BD-47B1-AC0E-EC43EBA04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2F7EB-4E78-4128-8BD8-62C09FBDA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37D7E-BBDC-4C6D-9B8C-FE0E3335F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B77C8-7EFE-4CA6-BA8F-C382506A6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4A9D7F-5677-4354-8FAC-8A0EFD97E1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2B4F459-B14B-4164-A175-F622D047141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C2977A2-F147-4785-9A96-DF290680A7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317D39-7A12-46DA-B205-375E680877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0431-14A0-4F71-88B4-F3357601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CB962EC-0690-45F5-A88D-C5BC26BD01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43F5F90-4034-4627-BEBF-52BDBCBA88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3029B9-BC3F-4072-99AA-669BAEF85B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19E0B5-CA8E-4E6D-968D-06167E505A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E9A5C77-E5B3-411E-AB7A-8C3EF57897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ECFF686-E104-4C6C-AB6D-F870FFC2F7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A774D77-C9BD-45A0-A8EC-1BB36298B0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9D9DB7-5FA0-4438-8339-2F31390F561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99DF510-AC91-4366-9263-DE9A771C967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8339EC-C9BC-4455-8A4F-E7D17BB43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18D38-2AD4-454D-A90A-D4ACE7591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65890-1293-483B-AA09-6B2E8C0AB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1AA66-8450-45B9-A554-F57D2D059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129D3-1D25-49EC-9C88-99A5C7BEE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A548E-4D92-44DD-98B5-1C7C7C963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2D435-F50D-4FAD-BD5A-CA88EB154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07FB5-330A-4942-8CD5-44D6A021A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AC2EF-CEE8-4C4E-BF37-240A83917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C1265-E658-4AAF-B815-9F7862337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1068C1-7BD1-4D44-8B7C-8CC775521D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E8520A-6E82-4807-9EF5-2BF9A05AB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FCE64-A66F-4207-941F-83F62901D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9026C4-882F-4BAF-9E69-E0F2B5D2C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40742A-3362-416B-9F28-772B0065DE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7F6D5-348F-4903-B5CC-F7D995426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DE80F-68CD-4CF7-8BFA-16C06058B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DB8F9-2CB1-4CB6-A324-58C9A5AE5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4BB0BA-40D1-4FBA-9C47-1A8E02EF5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A8E87-9B6B-487F-A954-4434AFDF5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85B57-EA2B-414F-B60D-150C8E506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B2F4E-DE1C-43EF-9225-B80CED9EA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9ADEA-8F99-4D98-A3E9-2F0B0B6B0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F6D4-AB67-44CF-B728-16B2699E0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B1141-4243-48E0-8B1F-E023F87E1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B72BB9-BB62-4814-BB28-6C76D67062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58DA1E-CCF0-487E-9FA9-EC03F0A58E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80C54B-BCF3-42DE-9885-25F5E0189A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CB252-F4BA-4F15-B0EB-20B2E7CB8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5464C-E4F9-44EA-A8E7-7254627086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87B53-B5E5-4504-8C3B-5428D532A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955AE-265B-44A4-9F89-FE6956F3E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B1EF91-BCFC-4BBE-95AB-31BCB95EE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4CEA3-B08D-4C2C-87F4-5F6413335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1682-5628-451B-8C34-F0EFCA35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AF42B-9FB7-4B18-829E-1D9FDFDE1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D085E-1D43-49DA-AFA1-8B2D90CAF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35970-6435-4416-B90E-90B3B30D6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D0B21F-8702-4FA8-A63E-48C6EBCA80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C0E6A-32C2-44A3-A821-A9AEFB1E9B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80AA47-34FD-4C29-AB31-47FF1F32F0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7A2766-8904-442E-990C-D5363D615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958D5-1D09-4A9C-98CF-74DE572C1C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EA7B64-FAC6-4C5C-BE87-57A0111C1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55DA5-EAEB-45D1-B35B-2CD80BF2B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4E39-06AD-472F-B308-25FC444B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8A2BC5-AF81-4B25-A910-A819CB192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D555F-E3CA-4AE6-B04B-3D5D10EC0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D5199-D347-42C7-9C3B-FEF3D5B69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F1631-9314-46E8-AA4A-1BFB2FA3E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5DAE5E-7911-4AF2-A8B2-1F74313D76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3C62DD-203D-4BD5-961E-253B93D01A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4BAA5E-3AB0-4749-902B-3F258D5D52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A39F9E-5D39-4C5A-BF6A-265F33899E6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76FD032-93D2-4B88-83AA-76E41054A7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600755E-8574-4238-9A88-639B99A8348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DCC5-B6D2-4162-A07F-C52439C25BEF}"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4352-0226-4321-89B4-85CAB41BEEE5}"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C334-A55E-4B05-94E6-F093C2250E7B}"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446B-3A67-4DC6-84F1-43BC4D9374C2}"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27EB-A085-4196-BFD0-4BC7548C6E0A}"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7B27-C9BF-4DD6-BCE6-91D40660FA38}"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53548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6CAC-2111-418A-A646-9A77572DE696}"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A841-A3D7-418F-A547-87638FF9CD5A}"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3D39-C5FA-413C-ACC9-3837FCC058E6}"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D075-0DC3-46E8-861A-FD9CE88282BE}"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DCDC-6367-4B91-B02E-D19CB61C5A0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B88E-6100-4480-8EA8-F8C17A90D8BD}"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members.shaw.ca/priscillatheroux/teacherrole.html" TargetMode="External"/><Relationship Id="rId2" Type="http://schemas.openxmlformats.org/officeDocument/2006/relationships/hyperlink" Target="http://www.rogertaylor.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Georgia"/>
              </a:rPr>
              <a:t>FULFILLING THE PROMISE OF DIFFERENTIATION:</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Georgia"/>
              </a:rPr>
              <a:t>RESPONDING TO THE NEEDS OF ALL LEARNERS</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Ways to Differentiate Instruction</a:t>
            </a:r>
            <a:endParaRPr b="0" lang="en-US" sz="3300" spc="-1" strike="noStrike">
              <a:solidFill>
                <a:srgbClr val="8c438f"/>
              </a:solidFill>
              <a:latin typeface="Georgia"/>
            </a:endParaRPr>
          </a:p>
        </p:txBody>
      </p:sp>
      <p:sp>
        <p:nvSpPr>
          <p:cNvPr id="623" name=""/>
          <p:cNvSpPr txBox="1"/>
          <p:nvPr/>
        </p:nvSpPr>
        <p:spPr>
          <a:xfrm>
            <a:off x="301680" y="1447920"/>
            <a:ext cx="8842320" cy="449568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eachers modify instruction in three key ways:</a:t>
            </a:r>
            <a:endParaRPr b="0" lang="en-US" sz="2800" spc="-1" strike="noStrike">
              <a:solidFill>
                <a:srgbClr val="000000"/>
              </a:solidFill>
              <a:latin typeface="Georg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Georgia"/>
              </a:rPr>
              <a:t>1. content 2. process 3.  product</a:t>
            </a:r>
            <a:endParaRPr b="0" lang="en-US" sz="32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content</a:t>
            </a:r>
            <a:r>
              <a:rPr b="0" lang="en-US" sz="2700" spc="-1" strike="noStrike">
                <a:solidFill>
                  <a:srgbClr val="000000"/>
                </a:solidFill>
                <a:latin typeface="Georgia"/>
              </a:rPr>
              <a:t> is “what” is taught. </a:t>
            </a:r>
            <a:endParaRPr b="0" lang="en-US" sz="27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process</a:t>
            </a:r>
            <a:r>
              <a:rPr b="0" lang="en-US" sz="2700" spc="-1" strike="noStrike">
                <a:solidFill>
                  <a:srgbClr val="000000"/>
                </a:solidFill>
                <a:latin typeface="Georgia"/>
              </a:rPr>
              <a:t> is the “how” of teaching.</a:t>
            </a:r>
            <a:endParaRPr b="0" lang="en-US" sz="27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product</a:t>
            </a:r>
            <a:r>
              <a:rPr b="0" lang="en-US" sz="2700" spc="-1" strike="noStrike">
                <a:solidFill>
                  <a:srgbClr val="000000"/>
                </a:solidFill>
                <a:latin typeface="Georgia"/>
              </a:rPr>
              <a:t> is the end result of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438f"/>
                </a:solidFill>
                <a:latin typeface="Georgia"/>
              </a:rPr>
              <a:t>The Content</a:t>
            </a:r>
            <a:endParaRPr b="0" lang="en-US" sz="4400" spc="-1" strike="noStrike">
              <a:solidFill>
                <a:srgbClr val="8c438f"/>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fontScale="91000"/>
          </a:bodyPr>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eting Standards for your grade level</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knowledge, the strategies, the skills</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eachers decide how to differentiate the content by assessing students’ knowledge before they begin to teach</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tching students with appropriate activities </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c438f"/>
                </a:solidFill>
                <a:latin typeface="Georgia"/>
              </a:rPr>
              <a:t>The Process</a:t>
            </a:r>
            <a:endParaRPr b="0" lang="en-US" sz="4800" spc="-1" strike="noStrike">
              <a:solidFill>
                <a:srgbClr val="8c438f"/>
              </a:solidFill>
              <a:latin typeface="Georgia"/>
            </a:endParaRPr>
          </a:p>
        </p:txBody>
      </p:sp>
      <p:sp>
        <p:nvSpPr>
          <p:cNvPr id="627" name=""/>
          <p:cNvSpPr txBox="1"/>
          <p:nvPr/>
        </p:nvSpPr>
        <p:spPr>
          <a:xfrm>
            <a:off x="301320" y="1527120"/>
            <a:ext cx="8504280" cy="4572000"/>
          </a:xfrm>
          <a:prstGeom prst="rect">
            <a:avLst/>
          </a:prstGeom>
          <a:noFill/>
          <a:ln w="0">
            <a:noFill/>
          </a:ln>
        </p:spPr>
        <p:txBody>
          <a:bodyPr lIns="90000" rIns="90000" tIns="46800" bIns="46800" anchor="t">
            <a:normAutofit fontScale="90000"/>
          </a:bodyPr>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type of instruction that teachers provide</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instructional materials that teachers use</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activities that students are involved in</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lesson design which includes variations of  the three groups patterns:</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ole group</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ll group</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e-on-one (Individual)</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45520" indent="-2455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5520" indent="-2455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438f"/>
                </a:solidFill>
                <a:latin typeface="Georgia"/>
              </a:rPr>
              <a:t>The Product</a:t>
            </a:r>
            <a:endParaRPr b="0" lang="en-US" sz="4000" spc="-1" strike="noStrike">
              <a:solidFill>
                <a:srgbClr val="8c438f"/>
              </a:solidFill>
              <a:latin typeface="Georgia"/>
            </a:endParaRPr>
          </a:p>
        </p:txBody>
      </p:sp>
      <p:sp>
        <p:nvSpPr>
          <p:cNvPr id="629" name=""/>
          <p:cNvSpPr txBox="1"/>
          <p:nvPr/>
        </p:nvSpPr>
        <p:spPr>
          <a:xfrm>
            <a:off x="301320" y="1527120"/>
            <a:ext cx="8504280" cy="4572000"/>
          </a:xfrm>
          <a:prstGeom prst="rect">
            <a:avLst/>
          </a:prstGeom>
          <a:noFill/>
          <a:ln w="0">
            <a:noFill/>
          </a:ln>
        </p:spPr>
        <p:txBody>
          <a:bodyPr lIns="90000" rIns="90000" tIns="46800" bIns="46800" anchor="t">
            <a:normAutofit fontScale="90000"/>
          </a:bodyPr>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ows the student’s personal interpretation</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ows what the student knows</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s what the student understands</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s how well the student can apply what they have learned</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d through a variety of forms:</a:t>
            </a:r>
            <a:endParaRPr b="0" lang="en-US" sz="3200" spc="-1" strike="noStrike">
              <a:solidFill>
                <a:srgbClr val="000000"/>
              </a:solidFill>
              <a:latin typeface="Georgia"/>
            </a:endParaRPr>
          </a:p>
          <a:p>
            <a:pPr lvl="1" marL="492480" indent="-245520">
              <a:spcBef>
                <a:spcPts val="70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Created  projects,  posters, oral reports, board games, websites, poems, etc. </a:t>
            </a:r>
            <a:endParaRPr b="0" lang="en-US" sz="2800" spc="-1" strike="noStrike">
              <a:solidFill>
                <a:srgbClr val="424456"/>
              </a:solidFill>
              <a:latin typeface="Georgia"/>
            </a:endParaRPr>
          </a:p>
          <a:p>
            <a:pPr lvl="1" marL="492480" indent="-245520">
              <a:spcBef>
                <a:spcPts val="70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4920" y="38088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438f"/>
                </a:solidFill>
                <a:latin typeface="Georgia"/>
              </a:rPr>
              <a:t>Grouping Patterns:</a:t>
            </a:r>
            <a:br>
              <a:rPr sz="3200"/>
            </a:br>
            <a:r>
              <a:rPr b="1" lang="en-US" sz="3200" spc="-1" strike="noStrike">
                <a:solidFill>
                  <a:srgbClr val="8c438f"/>
                </a:solidFill>
                <a:latin typeface="Georgia"/>
              </a:rPr>
              <a:t>Students must read and write everyday!</a:t>
            </a:r>
            <a:endParaRPr b="0" lang="en-US" sz="3200" spc="-1" strike="noStrike">
              <a:solidFill>
                <a:srgbClr val="8c438f"/>
              </a:solidFill>
              <a:latin typeface="Georgia"/>
            </a:endParaRPr>
          </a:p>
        </p:txBody>
      </p:sp>
      <p:sp>
        <p:nvSpPr>
          <p:cNvPr id="631" name=""/>
          <p:cNvSpPr txBox="1"/>
          <p:nvPr/>
        </p:nvSpPr>
        <p:spPr>
          <a:xfrm>
            <a:off x="304560" y="1676520"/>
            <a:ext cx="8504280" cy="4572000"/>
          </a:xfrm>
          <a:prstGeom prst="rect">
            <a:avLst/>
          </a:prstGeom>
          <a:noFill/>
          <a:ln w="0">
            <a:noFill/>
          </a:ln>
        </p:spPr>
        <p:txBody>
          <a:bodyPr lIns="90000" rIns="90000" tIns="46800" bIns="46800" anchor="t">
            <a:normAutofit/>
          </a:bodyPr>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i-lesson: whole group or small group instruction or one-on-one</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ed Reading: small groups</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terature Circle: small group</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ing words: Whole group, small group, individual</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ing Centers: Partners or small group</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ick Write: Individual</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ers Theatre: small groups</a:t>
            </a:r>
            <a:endParaRPr b="0" lang="en-US" sz="28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Best Classroom Blending</a:t>
            </a:r>
            <a:endParaRPr b="0" lang="en-US" sz="3300" spc="-1" strike="noStrike">
              <a:solidFill>
                <a:srgbClr val="8c438f"/>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Whole  group: Ex. The mini-lesson</a:t>
            </a:r>
            <a:endParaRPr b="0" lang="en-US" sz="3200" spc="-1" strike="noStrike">
              <a:solidFill>
                <a:srgbClr val="424456"/>
              </a:solidFill>
              <a:latin typeface="Georgia"/>
            </a:endParaRPr>
          </a:p>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Small group:  Ex. Guided Reading</a:t>
            </a:r>
            <a:endParaRPr b="0" lang="en-US" sz="3200" spc="-1" strike="noStrike">
              <a:solidFill>
                <a:srgbClr val="424456"/>
              </a:solidFill>
              <a:latin typeface="Georgia"/>
            </a:endParaRPr>
          </a:p>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Individual: Ex. </a:t>
            </a:r>
            <a:endParaRPr b="0" lang="en-US" sz="32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Effective Teachers Believe That…</a:t>
            </a:r>
            <a:endParaRPr b="0" lang="en-US" sz="3300" spc="-1" strike="noStrike">
              <a:solidFill>
                <a:srgbClr val="8c438f"/>
              </a:solidFill>
              <a:latin typeface="Georgia"/>
            </a:endParaRPr>
          </a:p>
        </p:txBody>
      </p:sp>
      <p:sp>
        <p:nvSpPr>
          <p:cNvPr id="635" name=""/>
          <p:cNvSpPr txBox="1"/>
          <p:nvPr/>
        </p:nvSpPr>
        <p:spPr>
          <a:xfrm>
            <a:off x="301320" y="1527120"/>
            <a:ext cx="8504280" cy="4572000"/>
          </a:xfrm>
          <a:prstGeom prst="rect">
            <a:avLst/>
          </a:prstGeom>
          <a:noFill/>
          <a:ln w="0">
            <a:noFill/>
          </a:ln>
        </p:spPr>
        <p:txBody>
          <a:bodyPr lIns="90000" rIns="90000" tIns="46800" bIns="46800" anchor="t">
            <a:normAutofit fontScale="92000"/>
          </a:bodyPr>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have areas of strength.</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have areas that need to be strengthened.</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student’s brain is as unique as a fingerprint.</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t is never too late to learn.</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n beginning a new topic, students bring their prior knowledge base and experience to the learning,</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Emotions, feelings, and attitudes affect learning.</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can learn.</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ents learn in different ways at different tim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THROUGH ASSESSMENT</a:t>
            </a:r>
            <a:endParaRPr b="0" lang="en-US" sz="3300" spc="-1" strike="noStrike">
              <a:solidFill>
                <a:srgbClr val="8c438f"/>
              </a:solidFill>
              <a:latin typeface="Georgia"/>
            </a:endParaRPr>
          </a:p>
        </p:txBody>
      </p:sp>
      <p:sp>
        <p:nvSpPr>
          <p:cNvPr id="6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lnSpc>
                <a:spcPct val="8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Georgia"/>
              </a:rPr>
              <a:t>Beginning where the children are at and moving them on is surely the key to good teaching.</a:t>
            </a:r>
            <a:endParaRPr b="0" lang="en-US" sz="6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Let’s  Try the Jigsaw</a:t>
            </a:r>
            <a:endParaRPr b="0" lang="en-US" sz="3300" spc="-1" strike="noStrike">
              <a:solidFill>
                <a:srgbClr val="8c438f"/>
              </a:solidFill>
              <a:latin typeface="Georgia"/>
            </a:endParaRPr>
          </a:p>
        </p:txBody>
      </p:sp>
      <p:pic>
        <p:nvPicPr>
          <p:cNvPr id="639" name="il_fi" descr="http://www.puzzlemachine.com/die%20construction.jpg"/>
          <p:cNvPicPr/>
          <p:nvPr/>
        </p:nvPicPr>
        <p:blipFill>
          <a:blip r:embed="rId1"/>
          <a:stretch/>
        </p:blipFill>
        <p:spPr>
          <a:xfrm>
            <a:off x="1905120" y="1981080"/>
            <a:ext cx="5230800" cy="323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Differentiation</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 </a:t>
            </a:r>
            <a:r>
              <a:rPr b="1" lang="en-US" sz="4000" spc="-1" strike="noStrike">
                <a:solidFill>
                  <a:srgbClr val="000000"/>
                </a:solidFill>
                <a:latin typeface="Georgia"/>
              </a:rPr>
              <a:t>is customizing instruction-</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 one size does </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NOT fit all philosophy.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752480" y="472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3548a"/>
                </a:solidFill>
                <a:latin typeface="Georgia"/>
              </a:rPr>
              <a:t>"If you honor growth </a:t>
            </a:r>
            <a:br>
              <a:rPr sz="3800"/>
            </a:br>
            <a:r>
              <a:rPr b="0" lang="en-US" sz="3800" spc="-1" strike="noStrike">
                <a:solidFill>
                  <a:srgbClr val="53548a"/>
                </a:solidFill>
                <a:latin typeface="Georgia"/>
              </a:rPr>
              <a:t>you will consistently do</a:t>
            </a:r>
            <a:br>
              <a:rPr sz="3800"/>
            </a:br>
            <a:r>
              <a:rPr b="0" lang="en-US" sz="3800" spc="-1" strike="noStrike">
                <a:solidFill>
                  <a:srgbClr val="53548a"/>
                </a:solidFill>
                <a:latin typeface="Georgia"/>
              </a:rPr>
              <a:t> what is best for all kids.“</a:t>
            </a:r>
            <a:br>
              <a:rPr sz="3800"/>
            </a:br>
            <a:br>
              <a:rPr sz="3800"/>
            </a:br>
            <a:r>
              <a:rPr b="0" lang="en-US" sz="3200" spc="-1" strike="noStrike">
                <a:solidFill>
                  <a:srgbClr val="53548a"/>
                </a:solidFill>
                <a:latin typeface="Georgia"/>
              </a:rPr>
              <a:t>Linda Foote</a:t>
            </a:r>
            <a:br>
              <a:rPr sz="3800"/>
            </a:br>
            <a:r>
              <a:rPr b="0" lang="en-US" sz="1800" spc="-1" strike="noStrike">
                <a:solidFill>
                  <a:srgbClr val="53548a"/>
                </a:solidFill>
                <a:latin typeface="Georgia"/>
              </a:rPr>
              <a:t>, Instructional Technology Specialist </a:t>
            </a:r>
            <a:br>
              <a:rPr sz="1800"/>
            </a:br>
            <a:r>
              <a:rPr b="0" lang="en-US" sz="1800" spc="-1" strike="noStrike">
                <a:solidFill>
                  <a:srgbClr val="53548a"/>
                </a:solidFill>
                <a:latin typeface="Georgia"/>
              </a:rPr>
              <a:t>Poway Unified School District</a:t>
            </a:r>
            <a:br>
              <a:rPr sz="3800"/>
            </a:br>
            <a:endParaRPr b="0" lang="en-US" sz="1800" spc="-1" strike="noStrike">
              <a:solidFill>
                <a:srgbClr val="8c438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3" name=""/>
          <p:cNvSpPr txBox="1"/>
          <p:nvPr/>
        </p:nvSpPr>
        <p:spPr>
          <a:xfrm>
            <a:off x="301320" y="1527120"/>
            <a:ext cx="8504280" cy="4572000"/>
          </a:xfrm>
          <a:prstGeom prst="rect">
            <a:avLst/>
          </a:prstGeom>
          <a:noFill/>
          <a:ln w="0">
            <a:noFill/>
          </a:ln>
        </p:spPr>
        <p:txBody>
          <a:bodyPr lIns="90000" rIns="90000" tIns="46800" bIns="46800" anchor="t">
            <a:normAutofit fontScale="94000"/>
          </a:bodyPr>
          <a:p>
            <a:pPr marL="256320" indent="-2563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   “</a:t>
            </a:r>
            <a:r>
              <a:rPr b="0" lang="en-US" sz="4000" spc="-1" strike="noStrike">
                <a:solidFill>
                  <a:srgbClr val="000000"/>
                </a:solidFill>
                <a:latin typeface="Georgia"/>
              </a:rPr>
              <a:t>Differentiation of instruction means “shaking up” what goes on in the classroom so that students have multiple options for taking in information, making sense of ideas, and expressing what they learn.”  </a:t>
            </a:r>
            <a:endParaRPr b="0" lang="en-US" sz="4000" spc="-1" strike="noStrike">
              <a:solidFill>
                <a:srgbClr val="000000"/>
              </a:solidFill>
              <a:latin typeface="Georgia"/>
            </a:endParaRPr>
          </a:p>
          <a:p>
            <a:pPr marL="256320" indent="-2563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mlinson (2001)</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38088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1" lang="en-US" sz="3000" spc="-1" strike="noStrike">
                <a:solidFill>
                  <a:srgbClr val="000000"/>
                </a:solidFill>
                <a:latin typeface="Georgia"/>
              </a:rPr>
              <a:t>In differentiated classrooms,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teachers provide specific ways for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students to learn as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deeply as possible and</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as quickly as possible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without assuming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one student’s road map</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for learning is identical to anyone else’s.”</a:t>
            </a:r>
            <a:endParaRPr b="0" lang="en-US" sz="30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Tomlinson(2001)</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    </a:t>
            </a:r>
            <a:r>
              <a:rPr b="0" lang="en-US" sz="4800" spc="-1" strike="noStrike">
                <a:solidFill>
                  <a:srgbClr val="000000"/>
                </a:solidFill>
                <a:latin typeface="Georgia"/>
              </a:rPr>
              <a:t>If a child does not learn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 way you teach,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n teach him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 way he learns.</a:t>
            </a:r>
            <a:br>
              <a:rPr sz="4800"/>
            </a:b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Classroom Formats</a:t>
            </a:r>
            <a:endParaRPr b="0" lang="en-US" sz="3300" spc="-1" strike="noStrike">
              <a:solidFill>
                <a:srgbClr val="8c438f"/>
              </a:solidFill>
              <a:latin typeface="Georgia"/>
            </a:endParaRPr>
          </a:p>
        </p:txBody>
      </p:sp>
      <p:sp>
        <p:nvSpPr>
          <p:cNvPr id="649" name=""/>
          <p:cNvSpPr txBox="1"/>
          <p:nvPr/>
        </p:nvSpPr>
        <p:spPr>
          <a:xfrm>
            <a:off x="457200" y="1599840"/>
            <a:ext cx="8229600" cy="4389480"/>
          </a:xfrm>
          <a:prstGeom prst="rect">
            <a:avLst/>
          </a:prstGeom>
          <a:noFill/>
          <a:ln w="0">
            <a:noFill/>
          </a:ln>
        </p:spPr>
        <p:txBody>
          <a:bodyPr lIns="90000" rIns="90000" tIns="46800" bIns="46800" anchor="t">
            <a:normAutofit/>
          </a:bodyPr>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iered lessons/assignmen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mpacting</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dependent Study/Projec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earning Stations or Center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lexible Grouping</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Multiple Leveled Ques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earning Contrac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hoice Board</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imula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resenta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438f"/>
                </a:solidFill>
                <a:latin typeface="Georgia"/>
              </a:rPr>
              <a:t>Tapping into Multiple Intelligences</a:t>
            </a:r>
            <a:endParaRPr b="0" lang="en-US" sz="3200" spc="-1" strike="noStrike">
              <a:solidFill>
                <a:srgbClr val="8c438f"/>
              </a:solidFill>
              <a:latin typeface="Georgia"/>
            </a:endParaRPr>
          </a:p>
        </p:txBody>
      </p:sp>
      <p:sp>
        <p:nvSpPr>
          <p:cNvPr id="65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ree Key Implementations:</a:t>
            </a:r>
            <a:endParaRPr b="0" lang="en-US" sz="3600" spc="-1" strike="noStrike">
              <a:solidFill>
                <a:srgbClr val="000000"/>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Learning Centers or Stations</a:t>
            </a:r>
            <a:endParaRPr b="0" lang="en-US" sz="3400" spc="-1" strike="noStrike">
              <a:solidFill>
                <a:srgbClr val="424456"/>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Simulations</a:t>
            </a:r>
            <a:endParaRPr b="0" lang="en-US" sz="3400" spc="-1" strike="noStrike">
              <a:solidFill>
                <a:srgbClr val="424456"/>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Presentations</a:t>
            </a:r>
            <a:endParaRPr b="0" lang="en-US" sz="3400" spc="-1" strike="noStrike">
              <a:solidFill>
                <a:srgbClr val="424456"/>
              </a:solidFill>
              <a:latin typeface="Georgia"/>
            </a:endParaRPr>
          </a:p>
          <a:p>
            <a:pPr marL="272880" indent="-272880">
              <a:spcBef>
                <a:spcPts val="8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Learning Stations and Centers</a:t>
            </a:r>
            <a:endParaRPr b="0" lang="en-US" sz="3300" spc="-1" strike="noStrike">
              <a:solidFill>
                <a:srgbClr val="8c438f"/>
              </a:solidFill>
              <a:latin typeface="Georgia"/>
            </a:endParaRPr>
          </a:p>
        </p:txBody>
      </p:sp>
      <p:sp>
        <p:nvSpPr>
          <p:cNvPr id="65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all group or individual activiti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ies /materials available to complete activity</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earch supports centers work at elementary, middle and high school level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aningful, standards based, student accountability</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ary activities to blend multiple intelligences and learning styl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8c438f"/>
                </a:solidFill>
                <a:latin typeface="Georgia"/>
              </a:rPr>
              <a:t>Simulations</a:t>
            </a:r>
            <a:endParaRPr b="0" lang="en-US" sz="5900" spc="-1" strike="noStrike">
              <a:solidFill>
                <a:srgbClr val="8c438f"/>
              </a:solidFill>
              <a:latin typeface="Georgia"/>
            </a:endParaRPr>
          </a:p>
        </p:txBody>
      </p:sp>
      <p:sp>
        <p:nvSpPr>
          <p:cNvPr id="65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vities that allow students to experiment with real-world activiti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her than hear about HOW to do a behavior, students will learn how to DO the behavior with greater understanding</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havior is learned by experience</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amples include:</a:t>
            </a:r>
            <a:endParaRPr b="0" lang="en-US" sz="27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bate</a:t>
            </a:r>
            <a:endParaRPr b="0" lang="en-US" sz="20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le-playing</a:t>
            </a:r>
            <a:endParaRPr b="0" lang="en-US" sz="20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c438f"/>
                </a:solidFill>
                <a:latin typeface="Georgia"/>
              </a:rPr>
              <a:t>Presentations</a:t>
            </a:r>
            <a:endParaRPr b="0" lang="en-US" sz="6000" spc="-1" strike="noStrike">
              <a:solidFill>
                <a:srgbClr val="8c438f"/>
              </a:solidFill>
              <a:latin typeface="Georgia"/>
            </a:endParaRPr>
          </a:p>
        </p:txBody>
      </p:sp>
      <p:sp>
        <p:nvSpPr>
          <p:cNvPr id="657" name=""/>
          <p:cNvSpPr txBox="1"/>
          <p:nvPr/>
        </p:nvSpPr>
        <p:spPr>
          <a:xfrm>
            <a:off x="457200" y="1752120"/>
            <a:ext cx="8229600" cy="4389480"/>
          </a:xfrm>
          <a:prstGeom prst="rect">
            <a:avLst/>
          </a:prstGeom>
          <a:noFill/>
          <a:ln w="0">
            <a:noFill/>
          </a:ln>
        </p:spPr>
        <p:txBody>
          <a:bodyPr lIns="90000" rIns="90000" tIns="46800" bIns="46800" anchor="t">
            <a:normAutofit/>
          </a:bodyPr>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Allow students to :</a:t>
            </a:r>
            <a:endParaRPr b="0" lang="en-US" sz="36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eak to an audience</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ccessfully  demonstrate an understanding of the subject matter</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sent using different strategies</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 information in a an effective way</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amples include:</a:t>
            </a:r>
            <a:endParaRPr b="0" lang="en-US" sz="2700" spc="-1" strike="noStrike">
              <a:solidFill>
                <a:srgbClr val="000000"/>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 </a:t>
            </a:r>
            <a:r>
              <a:rPr b="0" lang="en-US" sz="2200" spc="-1" strike="noStrike">
                <a:solidFill>
                  <a:srgbClr val="424456"/>
                </a:solidFill>
                <a:latin typeface="Georgia"/>
              </a:rPr>
              <a:t>Simple taking in front of class</a:t>
            </a:r>
            <a:endParaRPr b="0" lang="en-US" sz="2200" spc="-1" strike="noStrike">
              <a:solidFill>
                <a:srgbClr val="424456"/>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A written report</a:t>
            </a:r>
            <a:endParaRPr b="0" lang="en-US" sz="2200" spc="-1" strike="noStrike">
              <a:solidFill>
                <a:srgbClr val="424456"/>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A power point</a:t>
            </a:r>
            <a:endParaRPr b="0" lang="en-US" sz="2200" spc="-1" strike="noStrike">
              <a:solidFill>
                <a:srgbClr val="424456"/>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Multiple Intelligences</a:t>
            </a:r>
            <a:endParaRPr b="0" lang="en-US" sz="3300" spc="-1" strike="noStrike">
              <a:solidFill>
                <a:srgbClr val="8c438f"/>
              </a:solidFill>
              <a:latin typeface="Georgia"/>
            </a:endParaRPr>
          </a:p>
        </p:txBody>
      </p:sp>
      <p:sp>
        <p:nvSpPr>
          <p:cNvPr id="659" name=""/>
          <p:cNvSpPr txBox="1"/>
          <p:nvPr/>
        </p:nvSpPr>
        <p:spPr>
          <a:xfrm>
            <a:off x="457200" y="1447560"/>
            <a:ext cx="8229600" cy="4389480"/>
          </a:xfrm>
          <a:prstGeom prst="rect">
            <a:avLst/>
          </a:prstGeom>
          <a:noFill/>
          <a:ln w="0">
            <a:noFill/>
          </a:ln>
        </p:spPr>
        <p:txBody>
          <a:bodyPr lIns="90000" rIns="90000" tIns="46800" bIns="46800" anchor="t">
            <a:normAutofit/>
          </a:bodyPr>
          <a:p>
            <a:pPr marL="272880" indent="-2728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Georgia"/>
              </a:rPr>
              <a:t>What are they?</a:t>
            </a:r>
            <a:endParaRPr b="0" lang="en-US" sz="37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erbal-Linguistic</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athematical-Logic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usic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isual-Spati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Kinesthetic-Bodily</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rperson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raperson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aturalist</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istenti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8377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438f"/>
                </a:solidFill>
                <a:latin typeface="Georgia"/>
              </a:rPr>
              <a:t>Instructional Best Practices and Strategies</a:t>
            </a:r>
            <a:endParaRPr b="0" lang="en-US" sz="3000" spc="-1" strike="noStrike">
              <a:solidFill>
                <a:srgbClr val="8c438f"/>
              </a:solidFill>
              <a:latin typeface="Georgia"/>
            </a:endParaRPr>
          </a:p>
        </p:txBody>
      </p:sp>
      <p:sp>
        <p:nvSpPr>
          <p:cNvPr id="66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WL</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nk-pair-share</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teratute cirlces and guides reading group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rking the tex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o Not Like this slid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The idea of differentiating instruction </a:t>
            </a:r>
            <a:r>
              <a:rPr b="0" lang="en-US" sz="3200" spc="-1" strike="noStrike">
                <a:solidFill>
                  <a:srgbClr val="000000"/>
                </a:solidFill>
                <a:latin typeface="Georgia"/>
              </a:rPr>
              <a:t>to accommodate the different ways that students learn involves a hefty dose of common sense, as well as sturdy support in the theory and research of education (Tomlinson &amp; Allan, 2000). It is an approach to teaching that advocates active planning for student differences in classroom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Assessment  &amp; Evaulaution</a:t>
            </a:r>
            <a:endParaRPr b="0" lang="en-US" sz="3300" spc="-1" strike="noStrike">
              <a:solidFill>
                <a:srgbClr val="8c438f"/>
              </a:solidFill>
              <a:latin typeface="Georgia"/>
            </a:endParaRPr>
          </a:p>
        </p:txBody>
      </p:sp>
      <p:sp>
        <p:nvSpPr>
          <p:cNvPr id="66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rtfolio assessmen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servation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kills checklis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al repor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ritten repor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ion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cording sheets from center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amples of student work</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ubrric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a:t>
            </a:r>
            <a:r>
              <a:rPr b="1" lang="en-US" sz="4400" spc="-1" strike="noStrike">
                <a:solidFill>
                  <a:srgbClr val="000000"/>
                </a:solidFill>
                <a:latin typeface="Georgia"/>
              </a:rPr>
              <a:t>Fair is when everyone doesn’t</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necessarily get the same.</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Fair is when everyone</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gets what he or she needs!”</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Carol Ann Tomlins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438f"/>
                </a:solidFill>
                <a:latin typeface="Georgia"/>
              </a:rPr>
              <a:t>Differentiation</a:t>
            </a:r>
            <a:endParaRPr b="0" lang="en-US" sz="4400" spc="-1" strike="noStrike">
              <a:solidFill>
                <a:srgbClr val="8c438f"/>
              </a:solidFill>
              <a:latin typeface="Georgia"/>
            </a:endParaRPr>
          </a:p>
        </p:txBody>
      </p:sp>
      <p:sp>
        <p:nvSpPr>
          <p:cNvPr id="61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3000" spc="-1" strike="noStrike">
                <a:solidFill>
                  <a:srgbClr val="000000"/>
                </a:solidFill>
                <a:latin typeface="Georgia"/>
              </a:rPr>
              <a:t>Effective teachers know that their students vary --- in their interests and motivation, their background knowledge and prior experiences, and their culture and language proficiency as well as their literacy achievement --- so it’s important to take these individual differences into account as they plan for instruction.”</a:t>
            </a:r>
            <a:endParaRPr b="0" lang="en-US" sz="3000" spc="-1" strike="noStrike">
              <a:solidFill>
                <a:srgbClr val="000000"/>
              </a:solidFill>
              <a:latin typeface="Georgia"/>
            </a:endParaRPr>
          </a:p>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Gail E. Tompkins (2010)</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438f"/>
                </a:solidFill>
                <a:latin typeface="Georgia"/>
              </a:rPr>
              <a:t>Differentiation is NOT…</a:t>
            </a:r>
            <a:endParaRPr b="0" lang="en-US" sz="4000" spc="-1" strike="noStrike">
              <a:solidFill>
                <a:srgbClr val="8c438f"/>
              </a:solidFill>
              <a:latin typeface="Georgia"/>
            </a:endParaRPr>
          </a:p>
        </p:txBody>
      </p:sp>
      <p:sp>
        <p:nvSpPr>
          <p:cNvPr id="614" name=""/>
          <p:cNvSpPr txBox="1"/>
          <p:nvPr/>
        </p:nvSpPr>
        <p:spPr>
          <a:xfrm>
            <a:off x="301320" y="1527120"/>
            <a:ext cx="850428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riting 30 different lesson plans.</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ching at a slow pace so that everyone can keep up.</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andoning whole-class teaching, setting a task, and then letting pupils/groups work at their own pace through a worksheet.</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pecting some students to do better than others and calling it ‘differentiation by outcome’.</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umiliating the slow learners by drawing attention to their limitations.</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owing less able learners to copy or draw.</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Making more advanced learners do extension assignments after completing their "regular" work</a:t>
            </a:r>
            <a:endParaRPr b="0" lang="en-US" sz="24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Georgia"/>
            </a:endParaRPr>
          </a:p>
          <a:p>
            <a:pPr marL="270000" indent="-270000">
              <a:lnSpc>
                <a:spcPct val="80000"/>
              </a:lnSpc>
              <a:spcBef>
                <a:spcPts val="476"/>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What it is NOT…</a:t>
            </a:r>
            <a:endParaRPr b="0" lang="en-US" sz="3300" spc="-1" strike="noStrike">
              <a:solidFill>
                <a:srgbClr val="8c438f"/>
              </a:solidFill>
              <a:latin typeface="Georgia"/>
            </a:endParaRPr>
          </a:p>
        </p:txBody>
      </p:sp>
      <p:sp>
        <p:nvSpPr>
          <p:cNvPr id="616" name=""/>
          <p:cNvSpPr txBox="1"/>
          <p:nvPr/>
        </p:nvSpPr>
        <p:spPr>
          <a:xfrm>
            <a:off x="457200" y="144756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 separate individualized set of lessons for each child</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chaotic</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homogeneous grouping</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giving all the students the same work and assignments all of the tim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merely having centers in the room</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ssigning extra work to those who need a challeng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quantitativ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ssigning worksheets for struggling students</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57200" y="1523520"/>
            <a:ext cx="8229600" cy="438948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en-US" sz="2700" spc="-1" strike="noStrike" u="sng">
                <a:solidFill>
                  <a:srgbClr val="67afbd"/>
                </a:solidFill>
                <a:uFillTx/>
                <a:latin typeface="Georgia"/>
                <a:hlinkClick r:id="rId1"/>
              </a:rPr>
              <a:t>Guide on the Side rather than the Sage on the Stage</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afbd"/>
                </a:solidFill>
                <a:uFillTx/>
                <a:latin typeface="Georgia"/>
                <a:hlinkClick r:id="rId2"/>
              </a:rPr>
              <a:t>Dr. Roger Taylor</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urriculum Design for Excellence, Inc.)</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914400" y="1600200"/>
            <a:ext cx="75438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fferentiation is a process through which teachers enhance learning by matching student characteristics to instruction and assessment.</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can differentiate content, process, and/or product for students (Tomlinson, 1997).</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It is proactive, student-centered, </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teacher becomes a facilitator, assessor of students and planner of activities rather than an instructor. </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TextBox 2"/>
          <p:cNvSpPr/>
          <p:nvPr/>
        </p:nvSpPr>
        <p:spPr>
          <a:xfrm>
            <a:off x="2346120" y="685800"/>
            <a:ext cx="423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e3f68"/>
                </a:solidFill>
                <a:latin typeface="Georgia"/>
              </a:rPr>
              <a:t>What it IS…</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c438f"/>
                </a:solidFill>
                <a:latin typeface="Georgia"/>
              </a:rPr>
              <a:t>What else it IS…</a:t>
            </a:r>
            <a:endParaRPr b="0" lang="en-US" sz="6000" spc="-1" strike="noStrike">
              <a:solidFill>
                <a:srgbClr val="8c438f"/>
              </a:solidFill>
              <a:latin typeface="Georgia"/>
            </a:endParaRPr>
          </a:p>
        </p:txBody>
      </p:sp>
      <p:sp>
        <p:nvSpPr>
          <p:cNvPr id="621" name=""/>
          <p:cNvSpPr txBox="1"/>
          <p:nvPr/>
        </p:nvSpPr>
        <p:spPr>
          <a:xfrm>
            <a:off x="457200" y="167616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ing a vision that all students can succeed</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ing a variety of assignments to meet the various ways that students learn</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the learning styles of your students</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owing for students to choose (with teacher direction) the route for learning</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ing opportunities for students to demonstrate proficiency in an area they already know and allowing them to move forward</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alitative</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1:26:34Z</dcterms:created>
  <dc:creator>Darlene</dc:creator>
  <dc:description/>
  <dc:language>en-US</dc:language>
  <cp:lastModifiedBy>Darlene</cp:lastModifiedBy>
  <dcterms:modified xsi:type="dcterms:W3CDTF">2012-10-17T12:53:55Z</dcterms:modified>
  <cp:revision>23</cp:revision>
  <dc:subject/>
  <dc:title>Differentiating Instruction  Chapter 4</dc:title>
</cp:coreProperties>
</file>